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096-D05A-4E82-B458-534A3C4B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0D5-A233-44ED-B420-ACC6CF42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0E8-A76C-4C69-BA44-68F87602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CAF-2C40-43D7-9FF7-CFC3B6DF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BA3-766B-447B-870A-1E2C3200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E80-4BE8-442D-8D19-9B673131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C5B-F95B-4C5F-B953-D21DBE2C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BD3-19BA-4A95-9D4A-7C81251C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DE8-D751-41B7-854D-83C20BDF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2D1-91EC-44C0-B3BB-09DD93D6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517-F80F-40BC-A437-089424E3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EBF-9D97-4D0A-A5EB-113C4508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5C0B-52CE-4F43-BF82-CC99D2285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rans-siberia-tour-three-cities"/>
          <p:cNvPicPr/>
          <p:nvPr/>
        </p:nvPicPr>
        <p:blipFill>
          <a:blip r:embed="rId1"/>
          <a:stretch/>
        </p:blipFill>
        <p:spPr>
          <a:xfrm>
            <a:off x="0" y="-17640"/>
            <a:ext cx="1043928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Berlin Sans FB Demi"/>
              </a:rPr>
              <a:t>Mov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4343400"/>
            <a:ext cx="53341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Burst My Bubble"/>
              </a:rPr>
              <a:t>By:</a:t>
            </a:r>
            <a:r>
              <a:rPr b="0" lang="en-US" sz="4800" spc="-1" strike="noStrike">
                <a:solidFill>
                  <a:srgbClr val="cc66ff"/>
                </a:solidFill>
                <a:latin typeface="Burst My Bubble"/>
              </a:rPr>
              <a:t> </a:t>
            </a:r>
            <a:r>
              <a:rPr b="0" lang="en-US" sz="4800" spc="-1" strike="noStrike">
                <a:solidFill>
                  <a:srgbClr val="cc00ff"/>
                </a:solidFill>
                <a:latin typeface="Burst My Bubble"/>
              </a:rPr>
              <a:t>Alissa Tam</a:t>
            </a:r>
            <a:r>
              <a:rPr b="0" lang="en-US" sz="4800" spc="-1" strike="noStrike">
                <a:solidFill>
                  <a:srgbClr val="cc66ff"/>
                </a:solidFill>
                <a:latin typeface="Burst My Bubble"/>
              </a:rPr>
              <a:t> </a:t>
            </a:r>
            <a:r>
              <a:rPr b="0" lang="en-US" sz="4800" spc="-1" strike="noStrike">
                <a:solidFill>
                  <a:srgbClr val="ff3399"/>
                </a:solidFill>
                <a:latin typeface="Burst My Bubble"/>
              </a:rPr>
              <a:t>and</a:t>
            </a:r>
            <a:r>
              <a:rPr b="0" lang="en-US" sz="4800" spc="-1" strike="noStrike">
                <a:solidFill>
                  <a:srgbClr val="cc66ff"/>
                </a:solidFill>
                <a:latin typeface="Burst My Bubble"/>
              </a:rPr>
              <a:t> </a:t>
            </a:r>
            <a:r>
              <a:rPr b="0" lang="en-US" sz="4800" spc="-1" strike="noStrike">
                <a:solidFill>
                  <a:srgbClr val="66ff33"/>
                </a:solidFill>
                <a:latin typeface="Burst My Bubble"/>
              </a:rPr>
              <a:t>Bridget Durgin</a:t>
            </a:r>
            <a:r>
              <a:rPr b="0" lang="en-US" sz="4000" spc="-1" strike="noStrike">
                <a:solidFill>
                  <a:srgbClr val="66ff33"/>
                </a:solidFill>
                <a:latin typeface="Burst My Bubb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auhaus 93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any Russian rivers run from south to north making their use difficult during the wi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ost ports are covered in snow and 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The traders must transport their goods another 200 miles to reach the nearest part of inland Russ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Matura MT Script Capitals"/>
              </a:rPr>
              <a:t>Port Ci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Russia has two important ports called Kaliningrad and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Kaliningrad is located on a small island in the Baltic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t’s the only port that stays ice-free the whol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n the summer they have the choice of keeping their goods on the ships to travel 500 miles to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vie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vel is the main transportation of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In 1995 Russia had 154,000km of railroads but 26% of them were electr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ffic dropped since the beginning of the Russian economic reform, making the economy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Kristen ITC"/>
              </a:rPr>
              <a:t>Ai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donation of air service of total travel has dropped to 12.5% by 19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number of passengers flying was less then half the 1990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y pay part of air fares and long distance flights between cities accounted for much of the air activity in the early 19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image1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 citizens rely on public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six Russian cities have underground transportation, Moscow, St. Petersburg, Yekaterinburg, Nizhniy, Novgorod, Novosibirsk, and Sama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t of vehicles require expensive repair and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Alissa Tam</cp:lastModifiedBy>
  <dcterms:modified xsi:type="dcterms:W3CDTF">2010-12-20T23:56:31Z</dcterms:modified>
  <cp:revision>6</cp:revision>
  <dc:subject/>
  <dc:title>Movement</dc:title>
</cp:coreProperties>
</file>